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4CBA-3F38-4A69-BB45-92E0136A99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9D2-D928-4F48-AF5B-9FB4D493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658-7441-4B35-81F1-9DE591F4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CB6-D94A-48E0-A16B-34BA7FF4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9C7-5BB7-4C46-8E45-32EE6D11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3A1-ACA7-4DAD-A16C-CD21A91C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BD1-4DC5-4B0D-B1EA-9B0F7819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A1B-5DDD-43EF-9A25-21CD24E1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A5F-7248-475A-8EF6-B048A664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E80-B224-4C42-8F41-AF8F68D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9D9-CCFA-488B-82DA-A5F7A696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867-63B4-4BE2-90A0-63A23748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5AB-E1AB-4C0B-B7AB-8B3C9C18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0F0E-D356-4910-ABF4-D4942F0DF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56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"/>
          <p:cNvGrpSpPr/>
          <p:nvPr/>
        </p:nvGrpSpPr>
        <p:grpSpPr>
          <a:xfrm>
            <a:off x="2514600" y="2514600"/>
            <a:ext cx="837720" cy="380880"/>
            <a:chOff x="2514600" y="2514600"/>
            <a:chExt cx="837720" cy="380880"/>
          </a:xfrm>
        </p:grpSpPr>
        <p:sp>
          <p:nvSpPr>
            <p:cNvPr id="60" name="Oval 14"/>
            <p:cNvSpPr/>
            <p:nvPr/>
          </p:nvSpPr>
          <p:spPr>
            <a:xfrm>
              <a:off x="251460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297144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63" name="Oval 17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tons are combined with the electrons and oxy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9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297" name="Oval 9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1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0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2739960" y="3111480"/>
            <a:ext cx="838440" cy="380880"/>
            <a:chOff x="2739960" y="3111480"/>
            <a:chExt cx="838440" cy="380880"/>
          </a:xfrm>
        </p:grpSpPr>
        <p:sp>
          <p:nvSpPr>
            <p:cNvPr id="307" name="Oval 9"/>
            <p:cNvSpPr/>
            <p:nvPr/>
          </p:nvSpPr>
          <p:spPr>
            <a:xfrm>
              <a:off x="27399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31971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1"/>
          <p:cNvSpPr/>
          <p:nvPr/>
        </p:nvSpPr>
        <p:spPr>
          <a:xfrm>
            <a:off x="1371600" y="28954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1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1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2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2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3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 and forms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3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4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4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952880" y="1828800"/>
            <a:ext cx="1843200" cy="1409760"/>
            <a:chOff x="4952880" y="1828800"/>
            <a:chExt cx="1843200" cy="1409760"/>
          </a:xfrm>
        </p:grpSpPr>
        <p:sp>
          <p:nvSpPr>
            <p:cNvPr id="363" name="Oval 9"/>
            <p:cNvSpPr/>
            <p:nvPr/>
          </p:nvSpPr>
          <p:spPr>
            <a:xfrm>
              <a:off x="5529240" y="240516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6033960" y="24768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4952880" y="182880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6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5638680" y="1676520"/>
            <a:ext cx="1843200" cy="1409760"/>
            <a:chOff x="5638680" y="1676520"/>
            <a:chExt cx="1843200" cy="1409760"/>
          </a:xfrm>
        </p:grpSpPr>
        <p:sp>
          <p:nvSpPr>
            <p:cNvPr id="373" name="Oval 9"/>
            <p:cNvSpPr/>
            <p:nvPr/>
          </p:nvSpPr>
          <p:spPr>
            <a:xfrm>
              <a:off x="621504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71976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563868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2"/>
          <p:cNvSpPr/>
          <p:nvPr/>
        </p:nvSpPr>
        <p:spPr>
          <a:xfrm>
            <a:off x="4419720" y="243828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77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81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228600" y="304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o form a molecul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8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79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84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90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95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0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0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411" name="Oval 14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6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1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2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892600" y="3187800"/>
            <a:ext cx="837720" cy="380880"/>
            <a:chOff x="2892600" y="3187800"/>
            <a:chExt cx="837720" cy="380880"/>
          </a:xfrm>
        </p:grpSpPr>
        <p:sp>
          <p:nvSpPr>
            <p:cNvPr id="426" name="Oval 14"/>
            <p:cNvSpPr/>
            <p:nvPr/>
          </p:nvSpPr>
          <p:spPr>
            <a:xfrm>
              <a:off x="289260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334944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6"/>
          <p:cNvSpPr/>
          <p:nvPr/>
        </p:nvSpPr>
        <p:spPr>
          <a:xfrm>
            <a:off x="1523880" y="29718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3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3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4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6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4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5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5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16"/>
          <p:cNvSpPr/>
          <p:nvPr/>
        </p:nvSpPr>
        <p:spPr>
          <a:xfrm>
            <a:off x="12193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6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6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7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7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8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8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98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02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oxygen, there is a build up of hyd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0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11" name="Oval 24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14" name="Oval 27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9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17" name="Oval 30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20" name="Oval 33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23" name="Oval 36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838080" y="762120"/>
            <a:ext cx="7467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762120"/>
            <a:ext cx="7467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 ethanol +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33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37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43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46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49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52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55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58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161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164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167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170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80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84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90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93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96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99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02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05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08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11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14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17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20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231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235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241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244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247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250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53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56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59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62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65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68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71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77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31:13Z</dcterms:created>
  <dc:creator>NAlford</dc:creator>
  <dc:description/>
  <dc:language>en-US</dc:language>
  <cp:lastModifiedBy>RomaK</cp:lastModifiedBy>
  <dcterms:modified xsi:type="dcterms:W3CDTF">2015-09-04T11:06:55Z</dcterms:modified>
  <cp:revision>9</cp:revision>
  <dc:subject/>
  <dc:title>PowerPoint Presentation</dc:title>
</cp:coreProperties>
</file>